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028A-4E42-40D2-BC30-34B9EF633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739116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7560" y="3517560"/>
            <a:ext cx="739116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E39D-0B94-4E7B-A39D-ACA840C0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35120" y="144792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7560" y="351756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35120" y="351756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5EFD-FDD7-40E5-A840-55A126E9B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23796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46680" y="1447920"/>
            <a:ext cx="23796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45440" y="1447920"/>
            <a:ext cx="23796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7560" y="3517560"/>
            <a:ext cx="23796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46680" y="3517560"/>
            <a:ext cx="23796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45440" y="3517560"/>
            <a:ext cx="23796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2B45-DD17-4EBE-B10B-0B6CD264C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F8FA-907C-42F1-AF0D-EE63A41B5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447560" y="1447920"/>
            <a:ext cx="739116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BABA0-F0EF-490A-9CBF-F7F7E027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7391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E5EC-AB75-4FFF-9F7E-D6FAD659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3606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5120" y="1447920"/>
            <a:ext cx="3606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1FDD-2525-4CFA-BE07-C1F37A06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C66B-F6A2-4761-89DF-89ED4149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8441-C55C-4040-9BEF-A8A6962D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35120" y="1447920"/>
            <a:ext cx="3606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47560" y="351756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BD5D-3118-4868-AA9E-F4CA2D7E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7560" y="1447920"/>
            <a:ext cx="739116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4A02-09CC-4325-B463-52A1E677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3606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35120" y="144792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35120" y="351756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71AE-F4BB-496A-85BB-1B6A1C9F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35120" y="144792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47560" y="3517560"/>
            <a:ext cx="739116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9CD0-0E67-4B0B-B369-552C0F73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739116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447560" y="3517560"/>
            <a:ext cx="739116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56539-C845-48E2-8A6D-DC5C85F2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35120" y="144792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447560" y="351756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35120" y="351756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DD1C-AE8B-4668-A12A-E34EB3D89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23796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946680" y="1447920"/>
            <a:ext cx="23796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445440" y="1447920"/>
            <a:ext cx="23796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447560" y="3517560"/>
            <a:ext cx="23796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946680" y="3517560"/>
            <a:ext cx="23796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445440" y="3517560"/>
            <a:ext cx="237960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D04A-12D2-41F3-9CCB-1D83BE43F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7391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76C4-E282-46A8-9DB4-9D3FAC81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3606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35120" y="1447920"/>
            <a:ext cx="3606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8B29-82BD-4FCB-A341-3E70B3C4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E249-51DD-4EF0-8C76-28F651C8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DB37-1A3B-43AA-9B31-63F4D5FA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5120" y="1447920"/>
            <a:ext cx="3606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7560" y="351756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18B1-69D1-430B-9B77-04FC680B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3606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144792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35120" y="351756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CFB9-763B-457F-BFEA-C537B3FB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144792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7560" y="3517560"/>
            <a:ext cx="739116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C797-B357-4B6D-9C7B-F9FCBB4D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s-wiki.de/mediawiki/index.php/Hauptseite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3160" y="1244520"/>
            <a:ext cx="822672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447560" y="1447920"/>
            <a:ext cx="7391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99"/>
              </a:spcBef>
              <a:buClr>
                <a:srgbClr val="33cc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799"/>
              </a:spcBef>
              <a:buClr>
                <a:srgbClr val="8cfe0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73520" indent="-2178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973520" indent="-2178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973520" indent="-2178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Projekt Wi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B9E0-16C5-43B5-B93C-780708BDA198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Bs-wiki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33200" y="304920"/>
            <a:ext cx="1543320" cy="141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774800" y="762120"/>
            <a:ext cx="69264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Projekt Wi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5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6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8cfe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cfe0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75B3-F796-4F1F-9556-FF23FA8AE852}" type="slidenum">
              <a:rPr b="0" lang="de-DE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de.wikipedia.org/wiki/Hauptseite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s-wiki.de/mediawiki/index.php/Kraftfahrzeugmechatroniker" TargetMode="External"/><Relationship Id="rId2" Type="http://schemas.openxmlformats.org/officeDocument/2006/relationships/hyperlink" Target="http://www.bs-wiki.de/mediawiki/index.php/Kraftfahrzeugmechatroniker" TargetMode="External"/><Relationship Id="rId3" Type="http://schemas.openxmlformats.org/officeDocument/2006/relationships/hyperlink" Target="http://www.bs-wiki.de/mediawiki/index.php/Kategorie:Entwicklung_und_Konstruktion" TargetMode="External"/><Relationship Id="rId4" Type="http://schemas.openxmlformats.org/officeDocument/2006/relationships/hyperlink" Target="http://www.bs-wiki.de/mediawiki/index.php/Benutzer:Anthony" TargetMode="External"/><Relationship Id="rId5" Type="http://schemas.openxmlformats.org/officeDocument/2006/relationships/hyperlink" Target="http://www.bs-wiki.de/mediawiki/index.php/FSM2-2003" TargetMode="External"/><Relationship Id="rId6" Type="http://schemas.openxmlformats.org/officeDocument/2006/relationships/hyperlink" Target="http://www.bs-wiki.de/mediawiki/index.php/Ausbildungsbetriebe" TargetMode="External"/><Relationship Id="rId7" Type="http://schemas.openxmlformats.org/officeDocument/2006/relationships/hyperlink" Target="http://www.bs-wiki.de/mediawiki/index.php/Schulrecht" TargetMode="External"/><Relationship Id="rId8" Type="http://schemas.openxmlformats.org/officeDocument/2006/relationships/hyperlink" Target="http://www.bs-wiki.de/mediawiki/index.php/Kategorie:Arbeitsbl&#228;tter" TargetMode="External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Startbil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-304920" y="-152280"/>
            <a:ext cx="9448920" cy="716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Tournesol" descr=""/>
          <p:cNvPicPr/>
          <p:nvPr/>
        </p:nvPicPr>
        <p:blipFill>
          <a:blip r:embed="rId1"/>
          <a:stretch/>
        </p:blipFill>
        <p:spPr>
          <a:xfrm>
            <a:off x="1828800" y="380880"/>
            <a:ext cx="5578560" cy="563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3B5E-DAFB-47CD-A761-EC8E91A9D84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Log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523880" y="1828800"/>
            <a:ext cx="632484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3240">
                  <a:solidFill>
                    <a:srgbClr val="5f5f5f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dddddd"/>
                  </a:outerShdw>
                </a:effectLst>
                <a:latin typeface="Arial Unicode MS"/>
              </a:rPr>
              <a:t>[[      ]]</a:t>
            </a:r>
            <a:endParaRPr b="1" lang="en-US" sz="9600" spc="1" strike="noStrike">
              <a:ln w="3240">
                <a:solidFill>
                  <a:srgbClr val="5f5f5f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dddddd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514600" y="4114800"/>
            <a:ext cx="426708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24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33cc"/>
                    </a:gs>
                  </a:gsLst>
                  <a:lin ang="5400000"/>
                </a:gradFill>
                <a:effectLst>
                  <a:outerShdw dist="40186" dir="20503642" blurRad="0" rotWithShape="0">
                    <a:srgbClr val="dddddd"/>
                  </a:outerShdw>
                </a:effectLst>
                <a:latin typeface="Arial Unicode MS"/>
              </a:rPr>
              <a:t>Wissen teilen.</a:t>
            </a:r>
            <a:endParaRPr b="1" lang="en-US" sz="4000" spc="1" strike="noStrike">
              <a:ln w="324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3333cc"/>
                  </a:gs>
                </a:gsLst>
                <a:lin ang="5400000"/>
              </a:gradFill>
              <a:effectLst>
                <a:outerShdw dist="40186" dir="20503642" blurRad="0" rotWithShape="0">
                  <a:srgbClr val="dddddd"/>
                </a:outerShdw>
              </a:effectLst>
              <a:latin typeface="Arial Unicode MS"/>
              <a:ea typeface="Arial Unicode MS"/>
            </a:endParaRPr>
          </a:p>
        </p:txBody>
      </p:sp>
      <p:pic>
        <p:nvPicPr>
          <p:cNvPr id="101" name="Tournesol" descr=""/>
          <p:cNvPicPr/>
          <p:nvPr/>
        </p:nvPicPr>
        <p:blipFill>
          <a:blip r:embed="rId1"/>
          <a:stretch/>
        </p:blipFill>
        <p:spPr>
          <a:xfrm>
            <a:off x="1828800" y="380880"/>
            <a:ext cx="5578560" cy="5635800"/>
          </a:xfrm>
          <a:prstGeom prst="rect">
            <a:avLst/>
          </a:prstGeom>
          <a:ln w="0">
            <a:noFill/>
          </a:ln>
          <a:effectLst>
            <a:outerShdw dist="77353" dir="562478" blurRad="0" rotWithShape="0">
              <a:srgbClr val="eaeaea"/>
            </a:outerShdw>
          </a:effectLst>
        </p:spPr>
      </p:pic>
      <p:sp>
        <p:nvSpPr>
          <p:cNvPr id="102" name=""/>
          <p:cNvSpPr txBox="1"/>
          <p:nvPr/>
        </p:nvSpPr>
        <p:spPr>
          <a:xfrm>
            <a:off x="2300400" y="1038240"/>
            <a:ext cx="47242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5f5f5f"/>
                  </a:solidFill>
                  <a:miter/>
                </a:ln>
                <a:solidFill>
                  <a:srgbClr val="ff0000"/>
                </a:solidFill>
                <a:effectLst>
                  <a:outerShdw dist="45929" dir="19571123" blurRad="0" rotWithShape="0">
                    <a:srgbClr val="dddddd"/>
                  </a:outerShdw>
                </a:effectLst>
                <a:latin typeface="Arial Unicode MS"/>
              </a:rPr>
              <a:t>Projekt Wiki</a:t>
            </a:r>
            <a:endParaRPr b="1" lang="en-US" sz="2400" spc="1" strike="noStrike">
              <a:ln w="3240">
                <a:solidFill>
                  <a:srgbClr val="5f5f5f"/>
                </a:solidFill>
                <a:miter/>
              </a:ln>
              <a:solidFill>
                <a:srgbClr val="ff0000"/>
              </a:solidFill>
              <a:effectLst>
                <a:outerShdw dist="45929" dir="19571123" blurRad="0" rotWithShape="0">
                  <a:srgbClr val="dddddd"/>
                </a:outerShdw>
              </a:effectLst>
              <a:latin typeface="Arial Unicode MS"/>
              <a:ea typeface="Arial Unicode MS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067280" y="104760"/>
          <a:ext cx="1218960" cy="72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7280" y="104760"/>
                    <a:ext cx="121896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574E-7DF4-42CC-9633-82C578E6F79E}" type="slidenum">
              <a:t>2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66520" y="152280"/>
            <a:ext cx="4496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Gliederu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7391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as ist ein Wiki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arum ein Wiki an der BBS Winse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elche Anwendungsbeispiele &amp; Erfahrungswerte liegen v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ie kann ich mitmache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Hilfe" descr="Bild:Hilfe.png"/>
          <p:cNvPicPr/>
          <p:nvPr/>
        </p:nvPicPr>
        <p:blipFill>
          <a:blip r:embed="rId1"/>
          <a:srcRect l="0" t="0" r="60527" b="0"/>
          <a:stretch/>
        </p:blipFill>
        <p:spPr>
          <a:xfrm>
            <a:off x="7894800" y="30492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25F3-FC7B-472C-99D9-C7FCD71166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Keyboard" descr=""/>
          <p:cNvPicPr/>
          <p:nvPr/>
        </p:nvPicPr>
        <p:blipFill>
          <a:blip r:embed="rId1"/>
          <a:stretch/>
        </p:blipFill>
        <p:spPr>
          <a:xfrm>
            <a:off x="5410080" y="4267080"/>
            <a:ext cx="3703680" cy="24228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447560" y="195552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iki = hawaiianisch "schnell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nternetseiten, die mit einfachsten Mitteln erstellt werden könn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Grundprinzip: Alle Nutzer können Informationen lesen </a:t>
            </a: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und bearbeiten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Beispiel: </a:t>
            </a:r>
            <a:r>
              <a:rPr b="0" lang="de-DE" sz="2800" spc="-1" strike="noStrike" u="sng">
                <a:solidFill>
                  <a:srgbClr val="33ccff"/>
                </a:solidFill>
                <a:uFillTx/>
                <a:latin typeface="Tahoma"/>
                <a:hlinkClick r:id="rId2"/>
              </a:rPr>
              <a:t>Wikip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1790640" y="477684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Nachtei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473120" y="1485720"/>
            <a:ext cx="53992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Tahoma"/>
              </a:rPr>
              <a:t>Was ist ein Wiki?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AE8B-B93E-46FC-B342-B14C412126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447560" y="1447920"/>
            <a:ext cx="7391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Tahoma"/>
              </a:rPr>
              <a:t>Warum ein Wiki an der BBS Winsen?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lement für Unterrichtsgestaltu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örderung der Schülereigenaktivität, individuelle Förderung mögli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Transparenz von Inhalten, Strukturen und Metho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nformations-P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bbs_pic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5410080" y="3846600"/>
            <a:ext cx="3733920" cy="3011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DDD1-455B-460A-B035-9FA645532C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447920" y="14479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Anwendungsbeispiele &amp; Erfahrungswer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BS: </a:t>
            </a:r>
            <a:r>
              <a:rPr b="0" lang="de-DE" sz="2800" spc="-1" strike="noStrike" u="sng">
                <a:solidFill>
                  <a:srgbClr val="33ccff"/>
                </a:solidFill>
                <a:uFillTx/>
                <a:latin typeface="Tahoma"/>
                <a:hlinkClick r:id="rId1"/>
              </a:rPr>
              <a:t>Kfz-</a:t>
            </a:r>
            <a:r>
              <a:rPr b="0" lang="de-DE" sz="2800" spc="-1" strike="noStrike" u="sng">
                <a:solidFill>
                  <a:srgbClr val="33ccff"/>
                </a:solidFill>
                <a:uFillTx/>
                <a:latin typeface="Tahoma"/>
                <a:hlinkClick r:id="rId2"/>
              </a:rPr>
              <a:t>Mechatroniker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G: Chem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S-Metall: </a:t>
            </a:r>
            <a:r>
              <a:rPr b="0" lang="de-DE" sz="2800" spc="-1" strike="noStrike" u="sng">
                <a:solidFill>
                  <a:srgbClr val="33ccff"/>
                </a:solidFill>
                <a:uFillTx/>
                <a:latin typeface="Tahoma"/>
                <a:hlinkClick r:id="rId3"/>
              </a:rPr>
              <a:t>Entwicklung &amp; Konstruk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33ccff"/>
                </a:solidFill>
                <a:uFillTx/>
                <a:latin typeface="Tahoma"/>
                <a:hlinkClick r:id="rId4"/>
              </a:rPr>
              <a:t>Schüler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- &amp; </a:t>
            </a:r>
            <a:r>
              <a:rPr b="0" lang="de-DE" sz="2800" spc="-1" strike="noStrike" u="sng">
                <a:solidFill>
                  <a:srgbClr val="33ccff"/>
                </a:solidFill>
                <a:uFillTx/>
                <a:latin typeface="Tahoma"/>
                <a:hlinkClick r:id="rId5"/>
              </a:rPr>
              <a:t>Klassensei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Linklisten, z. B. </a:t>
            </a:r>
            <a:r>
              <a:rPr b="0" lang="de-DE" sz="2800" spc="-1" strike="noStrike" u="sng">
                <a:solidFill>
                  <a:srgbClr val="33ccff"/>
                </a:solidFill>
                <a:uFillTx/>
                <a:latin typeface="Tahoma"/>
                <a:hlinkClick r:id="rId6"/>
              </a:rPr>
              <a:t>Ausbildungsbetriebe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800" spc="-1" strike="noStrike" u="sng">
                <a:solidFill>
                  <a:srgbClr val="33ccff"/>
                </a:solidFill>
                <a:uFillTx/>
                <a:latin typeface="Tahoma"/>
                <a:hlinkClick r:id="rId7"/>
              </a:rPr>
              <a:t>Schulrecht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, Wiki-Ind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33ccff"/>
                </a:solidFill>
                <a:uFillTx/>
                <a:latin typeface="Tahoma"/>
                <a:hlinkClick r:id="rId8"/>
              </a:rPr>
              <a:t>Arbeitsblätter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hinterle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8F9B-138F-457C-9636-0C383B29C2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Schilf" descr=""/>
          <p:cNvPicPr/>
          <p:nvPr/>
        </p:nvPicPr>
        <p:blipFill>
          <a:blip r:embed="rId1"/>
          <a:srcRect l="0" t="0" r="10129" b="11049"/>
          <a:stretch/>
        </p:blipFill>
        <p:spPr>
          <a:xfrm>
            <a:off x="1706400" y="1336680"/>
            <a:ext cx="7437600" cy="55213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828800" y="14479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ffffff"/>
                </a:solidFill>
                <a:latin typeface="Tahoma"/>
              </a:rPr>
              <a:t>Mitmachen!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selbst ausprobieren: Wiki-Hilfe nut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Teilnahme an schulinterner Lehrer-Fortbildung (SchiL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AD9A-270A-4DA2-8C93-6CB2C1FC74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-304920" y="-152280"/>
            <a:ext cx="9448920" cy="716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Tournesol" descr=""/>
          <p:cNvPicPr/>
          <p:nvPr/>
        </p:nvPicPr>
        <p:blipFill>
          <a:blip r:embed="rId1"/>
          <a:stretch/>
        </p:blipFill>
        <p:spPr>
          <a:xfrm>
            <a:off x="1828800" y="380880"/>
            <a:ext cx="5578560" cy="56358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5480" y="350496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Vielen Dank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8850-4511-45FF-90F0-54DC1FAAEE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1T13:55:57Z</dcterms:created>
  <dc:creator>Detlef Giesler</dc:creator>
  <dc:description/>
  <dc:language>en-US</dc:language>
  <cp:lastModifiedBy>a</cp:lastModifiedBy>
  <dcterms:modified xsi:type="dcterms:W3CDTF">2007-02-14T16:11:01Z</dcterms:modified>
  <cp:revision>56</cp:revision>
  <dc:subject/>
  <dc:title>Projekt Wiki an der BBS Winsen</dc:title>
</cp:coreProperties>
</file>